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AE4-8493-42ED-9C15-78476FBF0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F1B-5461-4064-9CD8-35CEA5E4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range map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FFAE-5741-4E05-A9B5-7834FA58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28CE-E408-4D07-BDA5-0ADC8E59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1F4-D9DC-4083-818A-8BF7990E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9C1E-4EC4-4857-85F8-C51BB26A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E2AB-6589-4FFE-83C8-0D70BAE1A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515285&amp;SearchText=Investigations+Into+The+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316997&amp;PageSize=50&amp;SearchText=fidel+cas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B7F5-3E15-4C40-A4DA-911F4BBD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D49B-73E2-4BC8-8CA1-166A0669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348-753F-4610-9DEF-48DA530D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launch site photo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D2F-77F5-4E59-8AF7-5F0B4916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F95-7421-415E-9E10-C78F2052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069-F17B-4669-9F06-9E9D2886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A87-9E4B-4279-B3B2-77179960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2AE-1DB4-4CF7-A4D0-BD3CE0E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99B2-3BD9-4CBD-BA60-C6BC0E29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D72-BB13-4D5F-9C23-EA82282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190A-36C7-47EC-93DA-E9804DA4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7627-92D6-4C8E-90E6-94CE069D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788B-FA22-45BE-94D9-5CEEDA8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3F3-69C2-48FA-80F4-18BBC3E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DED-9915-47D5-BDF5-ACA970B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0D3A-AC4F-4AEB-9EBE-BC1C5BA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C34-0E61-43CA-8735-69580C7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CA7-19A1-4DB5-AC28-3E870924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2F6-1B28-4B4C-BFDC-DE6B4EA6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D9F5-5D73-4298-BC88-02CD4D29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E4B1-8933-4B97-9830-4DC82138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0B83-8A55-4660-8103-AA960997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533C-F28F-483C-9CEC-063253E0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12C7-F5E0-45C4-A546-1C69E578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1D41-0758-451B-AE07-19A045D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994-D659-4894-A2A5-6673E61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3426-4571-48FC-B3AB-3BB0601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100-32F5-4758-80EB-B7C8F15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50A2-E11F-4D9C-A516-5F13B5A2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CD12-C15D-4DC5-98E9-B0C794A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A518-EA60-4437-BE7A-376944E9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2B5B-F8BD-4AE6-91E8-E81D2DAD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1AB9-6156-4AED-839D-2777BB8E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A1CE-134A-4770-92C8-AF3EB283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5D90-714C-4BF5-A0DE-A8A67E2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3C74-7713-497D-8088-6CE4378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AAC-214F-4F51-B091-EFDB359B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9980-39D9-4039-A672-2B7055CC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C17D-E923-4F0E-9A4F-4CB5349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29C7-1419-42D4-81E9-56A10343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07A6-04B7-492F-9FC7-995DD17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D9E7-21CE-4ABF-A3ED-F819021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773B-B30E-4EBD-8389-F12DFFB7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EB2FB-76FD-4E64-8040-923DFC7A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BAC5-0F31-49DB-B3AF-AAD4502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5CF7-87F9-4AFB-9D97-F13380B1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A270-0100-4FF1-80E3-D0ABAEA1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86E-4B98-4EAE-813A-528C362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2D94-E2E5-4180-9086-31D4A5C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91CB-9B35-4549-B5B6-59B1A6A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99462-C5D3-4D01-8CF1-D1937CB2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551B-AAF1-42AC-96A4-F6C44864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8D79-01D2-481E-A64A-6A2FD10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130E-80AB-4BB1-BF1E-68A02EC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CB7D-06E2-4A23-B2AC-A7C63E1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0B7A9-A2B3-4BD6-9E49-135BEFE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D1E0-019E-44B2-B5E1-2E7FF51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2B35-2964-464B-A2DA-7F4898BD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9D3-DC83-49C8-A23B-ED743132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27B3-DABE-45CA-9E64-A0123793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9DEF5-DBFA-4455-9003-FBD32D7A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B7EE-0D8A-41C1-86D5-2BA1E0D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4FB6-6AA7-40FF-82FB-4047580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4D487-DC20-4354-A985-7C00E813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E1AD8-4EEF-445D-96AA-03B94D3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88A6B-8A6C-4872-ABA0-588A81C0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CF00-233C-4225-AF27-9E76E99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96C25-7E4E-45BC-AB42-123415DD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D554-A17D-4E79-A804-AA3531B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C60-0A51-40AB-B81A-9E604BD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F855-8354-4780-846F-535D624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E480-4FF7-4E1E-8E94-F8FAC57D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134F-9303-412F-8FE6-E3185FD6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B3BD-8F96-4323-8D3C-CB0C5B01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DFF1-C474-4969-A93D-95A2846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1092-944C-4D5F-A209-E70DF64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F650-4AAF-43C7-95E3-803CFDED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E68D-737A-433F-80AE-AB164A8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11727-FE5E-4C24-A23C-EB91FBE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183B-661A-4F2B-A306-82FCFCF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D28-2088-4E77-B321-39EABB2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E51D-52E8-4D8C-B509-327D003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3F1B-EE6A-469D-8D3B-67665DB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5938-0F86-455E-887A-7AF669D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18F54-BF85-484D-A72D-0259B20B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888D-E177-4564-8C5D-507F30D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897-0A6B-4A20-BE09-8323F4A9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E3BC-5237-4A72-908D-54D3B05F409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1AF-25A3-4CB5-9FE3-EE9336B459F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7E89-5FE4-4549-A775-982ABEC32C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D44-1C70-4748-BCD5-43A832AE527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ECA-9270-4551-A6ED-28A5C055CA1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F792-4E15-4D13-92BB-881AEB9D87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01CB-010A-429F-B3EC-A78F64A27C4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y of Pigs Invasion, Berlin Crisis, and Cuban Missile Crisi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What impact did the Bay of Pigs, Berlin Crisis, and Cuban Missile Crisis have on the Cold War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6"/>
          <p:cNvSpPr/>
          <p:nvPr/>
        </p:nvSpPr>
        <p:spPr>
          <a:xfrm>
            <a:off x="380880" y="205740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issil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 the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ban sites threate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jor cities in the United Stat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8" name="Picture 5" descr="hsus_ch28_s1_CubanMissileMap"/>
          <p:cNvPicPr/>
          <p:nvPr/>
        </p:nvPicPr>
        <p:blipFill>
          <a:blip r:embed="rId1"/>
          <a:stretch/>
        </p:blipFill>
        <p:spPr>
          <a:xfrm>
            <a:off x="3352680" y="1295280"/>
            <a:ext cx="5748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Cuban Missile Crisi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1676520" y="3962520"/>
            <a:ext cx="66294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hrushchev agreed to dismantle the missiles if the United States pledged to never invade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oth Kennedy and Khrushchev took steps to ease tensions between their countrie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y set up a hotline to allow direct communication during times of crisi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Limited Nuclear Test Ban Treaty was signed, ending atmospheric and underwater testing of nuclear weapon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1676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anag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676520" y="838080"/>
            <a:ext cx="6629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assembled a group of advisors, known as the ExComm, to help him plan a respons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ExComm military members favored an air strike, perhaps followed by a land invasion of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Others argued for a naval blockade.  Kennedy agreed with this plan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world watched as Soviet ships carrying missile parts approached the naval blockade.  They turned back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20560" y="4191120"/>
            <a:ext cx="10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ffects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of th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8"/>
          <p:cNvSpPr/>
          <p:nvPr/>
        </p:nvSpPr>
        <p:spPr>
          <a:xfrm>
            <a:off x="4495680" y="18288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b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533520" y="1828800"/>
            <a:ext cx="39621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43040" y="2066760"/>
          <a:ext cx="7696080" cy="3610080"/>
        </p:xfrm>
        <a:graphic>
          <a:graphicData uri="http://schemas.openxmlformats.org/drawingml/2006/table">
            <a:tbl>
              <a:tblPr/>
              <a:tblGrid>
                <a:gridCol w="3752640"/>
                <a:gridCol w="3943440"/>
              </a:tblGrid>
              <a:tr h="609840"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ubl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ind the Sce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0240"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a television address, Kennedy blamed </a:t>
                      </a:r>
                      <a:r>
                        <a:rPr b="0" lang="en-US" sz="1800" spc="-1" strike="noStrike">
                          <a:solidFill>
                            <a:srgbClr val="a5d028"/>
                          </a:solidFill>
                          <a:latin typeface="Verdana"/>
                        </a:rPr>
                        <a:t>Khrushchev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reckless action that threatened world pe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initiated a U.S. naval blockade of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told the Soviets that the United States would remove U.S. missiles from Turkey and Italy if the Soviets removed their missiles from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6680" y="1523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resolve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Kennedy worked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soviet_old_soviet_union_fla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386320" y="5257800"/>
            <a:ext cx="1243080" cy="824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us_flag"/>
          <p:cNvPicPr/>
          <p:nvPr/>
        </p:nvPicPr>
        <p:blipFill>
          <a:blip r:embed="rId2">
            <a:lum bright="44000"/>
          </a:blip>
          <a:stretch/>
        </p:blipFill>
        <p:spPr>
          <a:xfrm>
            <a:off x="2514600" y="5267160"/>
            <a:ext cx="1343160" cy="8146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29"/>
          <p:cNvSpPr/>
          <p:nvPr/>
        </p:nvSpPr>
        <p:spPr>
          <a:xfrm>
            <a:off x="304920" y="140184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fter six tense days, the Soviets backed off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Text Box 130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ikita Khrushche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greed to honor the blockade and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d the missil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066680" y="3429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risis prompted the two leaders to establish a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eriod of détente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set up 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t 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Washington, D.C. and Moscow to improve communicatio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3" name="Picture 10" descr="hsus_ch28_s1_hotlineleft"/>
          <p:cNvPicPr/>
          <p:nvPr/>
        </p:nvPicPr>
        <p:blipFill>
          <a:blip r:embed="rId3"/>
          <a:stretch/>
        </p:blipFill>
        <p:spPr>
          <a:xfrm>
            <a:off x="4038480" y="5257800"/>
            <a:ext cx="1087560" cy="78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7-532-map"/>
          <p:cNvPicPr/>
          <p:nvPr/>
        </p:nvPicPr>
        <p:blipFill>
          <a:blip r:embed="rId1"/>
          <a:stretch/>
        </p:blipFill>
        <p:spPr>
          <a:xfrm>
            <a:off x="338040" y="363600"/>
            <a:ext cx="8447040" cy="5624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7-528-image"/>
          <p:cNvPicPr/>
          <p:nvPr/>
        </p:nvPicPr>
        <p:blipFill>
          <a:blip r:embed="rId1"/>
          <a:stretch/>
        </p:blipFill>
        <p:spPr>
          <a:xfrm>
            <a:off x="63360" y="762120"/>
            <a:ext cx="901728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52280" y="4373640"/>
            <a:ext cx="487692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5720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nnedy took responsibility for the mission’s failure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AutoShape 10"/>
          <p:cNvSpPr/>
          <p:nvPr/>
        </p:nvSpPr>
        <p:spPr>
          <a:xfrm flipH="1">
            <a:off x="5180760" y="3962520"/>
            <a:ext cx="3581640" cy="2133360"/>
          </a:xfrm>
          <a:prstGeom prst="wedgeRoundRectCallout">
            <a:avLst>
              <a:gd name="adj1" fmla="val -41537"/>
              <a:gd name="adj2" fmla="val -64847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334120" y="41148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esident said, however, that he would continue to resist efforts by the communists to control other countries in Western Hemispher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0480" y="15238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arted with Eisenhower and followed with Kennedy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ceived by the CIA to overthrow Fidel Castro, the invasion involved Cuban exiles who had fled Castro’s rule and settled in the United States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ay of Pig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ssion failed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 Bay of Pigs Invasion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ay of Pigs Invas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533520" y="1600200"/>
            <a:ext cx="7696080" cy="26668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Failed Invas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formation was leaked early- New York Tim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ir strikes faile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Castro prepared for a land attack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vaders were captured and ransomed back to United States for $52 million in food and ai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trengthened Castro’s ties to the Soviet Un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81360" y="4438800"/>
            <a:ext cx="456264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8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457200" y="380880"/>
            <a:ext cx="8001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Berlin Crisis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greement over Berlin led to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ilding of the </a:t>
            </a:r>
            <a:r>
              <a:rPr b="1" lang="en-US" sz="2400" spc="-1" strike="noStrike">
                <a:solidFill>
                  <a:srgbClr val="a5d028"/>
                </a:solidFill>
                <a:latin typeface="Verdana"/>
              </a:rPr>
              <a:t>Berlin Wal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AutoShape 23"/>
          <p:cNvSpPr/>
          <p:nvPr/>
        </p:nvSpPr>
        <p:spPr>
          <a:xfrm flipH="1">
            <a:off x="380160" y="2286000"/>
            <a:ext cx="3581640" cy="1295280"/>
          </a:xfrm>
          <a:prstGeom prst="wedgeRoundRectCallout">
            <a:avLst>
              <a:gd name="adj1" fmla="val -59356"/>
              <a:gd name="adj2" fmla="val -75004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hrushchev insisted the U.S. end its military presence in West Berl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AutoShape 24"/>
          <p:cNvSpPr/>
          <p:nvPr/>
        </p:nvSpPr>
        <p:spPr>
          <a:xfrm flipH="1">
            <a:off x="4723560" y="2057400"/>
            <a:ext cx="4038840" cy="1600200"/>
          </a:xfrm>
          <a:prstGeom prst="wedgeRoundRectCallout">
            <a:avLst>
              <a:gd name="adj1" fmla="val 54675"/>
              <a:gd name="adj2" fmla="val 63689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nnedy refused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763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hrushchev ordered the building of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parating East and West Berli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9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4248000" y="4343400"/>
            <a:ext cx="457200" cy="1447920"/>
          </a:xfrm>
          <a:prstGeom prst="rect">
            <a:avLst/>
          </a:prstGeom>
          <a:gradFill rotWithShape="0">
            <a:gsLst>
              <a:gs pos="0">
                <a:srgbClr val="a3a3c1"/>
              </a:gs>
              <a:gs pos="50000">
                <a:srgbClr val="dddddd"/>
              </a:gs>
              <a:gs pos="100000">
                <a:srgbClr val="a3a3c1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533520" y="1447920"/>
            <a:ext cx="838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response to Khrushchev’s actions, Kennedy requested a larg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increase in military spendin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also sent 1,500 more U.S. soldiers to West Berlin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37339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a symbol of the gulf betwe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AutoShape 15"/>
          <p:cNvSpPr/>
          <p:nvPr/>
        </p:nvSpPr>
        <p:spPr>
          <a:xfrm flipH="1" rot="5400000">
            <a:off x="2056680" y="2937600"/>
            <a:ext cx="762120" cy="3962520"/>
          </a:xfrm>
          <a:prstGeom prst="upArrowCallout">
            <a:avLst>
              <a:gd name="adj1" fmla="val 96842"/>
              <a:gd name="adj2" fmla="val 50000"/>
              <a:gd name="adj3" fmla="val 68650"/>
              <a:gd name="adj4" fmla="val 26394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4952880" y="47242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AutoShape 16"/>
          <p:cNvSpPr/>
          <p:nvPr/>
        </p:nvSpPr>
        <p:spPr>
          <a:xfrm flipH="1" rot="16200000">
            <a:off x="6186240" y="2847600"/>
            <a:ext cx="762120" cy="4143600"/>
          </a:xfrm>
          <a:prstGeom prst="upArrowCallout">
            <a:avLst>
              <a:gd name="adj1" fmla="val 96842"/>
              <a:gd name="adj2" fmla="val 50000"/>
              <a:gd name="adj3" fmla="val 71788"/>
              <a:gd name="adj4" fmla="val 263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685800" y="47242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mocratic We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5029200" y="4724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7-531-closeup"/>
          <p:cNvPicPr/>
          <p:nvPr/>
        </p:nvPicPr>
        <p:blipFill>
          <a:blip r:embed="rId1"/>
          <a:stretch/>
        </p:blipFill>
        <p:spPr>
          <a:xfrm>
            <a:off x="1447920" y="-30240"/>
            <a:ext cx="5638680" cy="69138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Rectangle 6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6"/>
          <p:cNvSpPr/>
          <p:nvPr/>
        </p:nvSpPr>
        <p:spPr>
          <a:xfrm>
            <a:off x="5791320" y="2133720"/>
            <a:ext cx="3124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962, American intelligence agencies photographed Sovie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uclear missile installations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Cub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4" name="Picture 5" descr="hsus_ch28_s1_CubanMissiles"/>
          <p:cNvPicPr/>
          <p:nvPr/>
        </p:nvPicPr>
        <p:blipFill>
          <a:blip r:embed="rId1"/>
          <a:stretch/>
        </p:blipFill>
        <p:spPr>
          <a:xfrm>
            <a:off x="304920" y="1676520"/>
            <a:ext cx="543564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1523880" y="1003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://wiki.danse.us/danse-restricted/images/1/12/CubanMissileCrisisU2photo.jpg"/>
          <p:cNvPicPr/>
          <p:nvPr/>
        </p:nvPicPr>
        <p:blipFill>
          <a:blip r:embed="rId1"/>
          <a:stretch/>
        </p:blipFill>
        <p:spPr>
          <a:xfrm>
            <a:off x="0" y="20520"/>
            <a:ext cx="9240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22:51:52Z</dcterms:created>
  <dc:creator>Gille, Brock</dc:creator>
  <dc:description/>
  <dc:language>en-US</dc:language>
  <cp:lastModifiedBy>Sacerdote, Kevin R.</cp:lastModifiedBy>
  <dcterms:modified xsi:type="dcterms:W3CDTF">2016-02-28T16:26:40Z</dcterms:modified>
  <cp:revision>6</cp:revision>
  <dc:subject/>
  <dc:title>PowerPoint Presentation</dc:title>
</cp:coreProperties>
</file>